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34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13.jpeg" ContentType="image/jpeg"/>
  <Override PartName="/ppt/media/image9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0.png" ContentType="image/png"/>
  <Override PartName="/ppt/media/image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3099-61D8-4CA4-99CF-237E543AF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DBFF-5F72-4608-9EAF-A920CC38C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2112-264B-4303-BECB-D1F1BD754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1B7A-7B61-40F0-BC05-20C7B413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C04C-B401-4638-8DF5-282E15D1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CD9D-B039-4B93-80B6-271C52304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951C-3509-4194-B8D8-E29701CF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F091-8711-4543-8392-32FA2955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BBC4-8C6E-4245-B1BE-7706F406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1B98-C98E-4BE3-97CF-99658D67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E6B2-C055-4615-8939-A979BF2A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DE5D-E4D5-4C3D-BB00-129A6EBF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9D3F-E034-46FE-BE3C-20014DCD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DBCB-8605-4405-BC07-D2135B93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261C-98E6-4DE7-A34B-5B693CC77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a/Seal_Of_The_President_Of_The_Unites_States_Of_America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Boeing_VC-25A_82-8000_USAF.jp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en.wikipedia.org/wiki/Image:Marine_One_Whitehouse.jpg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oliticallycorrect.com/images/indec.gif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images.google.com/imgres?imgurl=www.sec.state.la.us/IMG/holidays/Memorial/us-flag-250px.jpg&amp;imgrefurl=http://www.sec.state.la.us/comm/sosdir.htm&amp;h=162&amp;w=250&amp;start=1&amp;prev=/images%3Fq%3DU.S.%2Bflag%26svnum%3D10%26hl%3Den%26lr%3D%26ie%3DUTF-8%26oe%3DUTF-8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teachpol.tcnj.edu/amer_pol_hist/thumbnail189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Reagan_Bush_1984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XECUTIVE BRA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37" descr="Image:Seal Of The President Of The Unites States Of America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1752480"/>
            <a:ext cx="44956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1984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55623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84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Most Popular Presi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Franklin Roosevel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was the only President elected more than tw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 was elected (4) ti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of the elections were landsli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3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472-5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3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523-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4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449-8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4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432-9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22</a:t>
            </a:r>
            <a:r>
              <a:rPr b="1" lang="en-US" sz="2200" spc="-1" strike="noStrike" u="sng" baseline="30000">
                <a:solidFill>
                  <a:srgbClr val="000000"/>
                </a:solidFill>
                <a:uFillTx/>
                <a:latin typeface="Arial"/>
              </a:rPr>
              <a:t>nd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Amendm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passed 6 years after FDR’s death, said tha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 President could ever again serve more than 2 te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fdr"/>
          <p:cNvPicPr/>
          <p:nvPr/>
        </p:nvPicPr>
        <p:blipFill>
          <a:blip r:embed="rId1"/>
          <a:stretch/>
        </p:blipFill>
        <p:spPr>
          <a:xfrm>
            <a:off x="4443480" y="1371600"/>
            <a:ext cx="4545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idential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723920" y="1295280"/>
            <a:ext cx="40388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he’s elected, the President receives many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salary is $400,000 a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has his own private luxury 747 airl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has a private helico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and his family are protected by the secret service for the rest of their lives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has a staff of hundreds to help h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ell as numerous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8" descr="300px-Boeing_VC-25A_82-8000_USA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447920"/>
            <a:ext cx="4038480" cy="234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Marine One lifting off of the White House south law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3962520"/>
            <a:ext cx="41148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hite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723920" y="13716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White Hous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is the President’s official hom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ry President except Washington has lived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at 1600 Pennsylvania Avenue in Washington, D.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ork of the president is done is the “West Wing”, the First Lady’s office is in the “East W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esident’s office is called the “Oval Offic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5" descr="260px-North_Fa%C3%A7ade_White_House"/>
          <p:cNvPicPr/>
          <p:nvPr/>
        </p:nvPicPr>
        <p:blipFill>
          <a:blip r:embed="rId1"/>
          <a:stretch/>
        </p:blipFill>
        <p:spPr>
          <a:xfrm>
            <a:off x="380880" y="2209680"/>
            <a:ext cx="41911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idential Hidea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4267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sides the White House in Washington, D.C., the President also gets to use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amp Davi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in rural Marylan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e both works and lives in these hom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e presidents also use their private homes as places of wor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esident Obama’s home in Chicago, Illinois can be used as a retreat and as a place to receive official guests of the United Stat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5" descr="Main Lodge at Camp David during Nixon administration, February 9, 1971."/>
          <p:cNvPicPr/>
          <p:nvPr/>
        </p:nvPicPr>
        <p:blipFill>
          <a:blip r:embed="rId1"/>
          <a:stretch/>
        </p:blipFill>
        <p:spPr>
          <a:xfrm>
            <a:off x="4648320" y="1219320"/>
            <a:ext cx="4038480" cy="26319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Barack Obama's house, Chicago. All photos under copyright; may not be used without permission."/>
          <p:cNvPicPr/>
          <p:nvPr/>
        </p:nvPicPr>
        <p:blipFill>
          <a:blip r:embed="rId2"/>
          <a:stretch/>
        </p:blipFill>
        <p:spPr>
          <a:xfrm>
            <a:off x="4648320" y="3871800"/>
            <a:ext cx="4038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Vice-Presi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4495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ice-President becomes President if the President dies in office or cannot continue his term for whatever rea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has happened 9 times in U.S.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nly Constitutional role the Vice President has is to lead the Se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Presidents give the Vice President other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last three Vice Presidents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Joe Bid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ick Cheney and Al Gore have played a larger role in government than most other Vice Pres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3" descr="Joe_Biden%2C_official_photo_portrait_2-cropped"/>
          <p:cNvPicPr/>
          <p:nvPr/>
        </p:nvPicPr>
        <p:blipFill>
          <a:blip r:embed="rId1"/>
          <a:stretch/>
        </p:blipFill>
        <p:spPr>
          <a:xfrm>
            <a:off x="4952880" y="1371600"/>
            <a:ext cx="3281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the unthinkable happ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ine Presidents have not been able to finish their elected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were assass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 died of sick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resigned under threat of impeach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nine Vice Presidents have become President unexpecte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Vice President Dick Cheney and Mrs. Lynne Cheney salute as the casket of former President Gerald R. Ford is carried by a military honor guard during interment ceremonies on the grounds of the Gerald R. Ford Presidential Museum in Grand Rapids, Mich., Wednesday, January 3, 2007."/>
          <p:cNvPicPr/>
          <p:nvPr/>
        </p:nvPicPr>
        <p:blipFill>
          <a:blip r:embed="rId1"/>
          <a:stretch/>
        </p:blipFill>
        <p:spPr>
          <a:xfrm>
            <a:off x="457200" y="2470320"/>
            <a:ext cx="4038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liam Henry Harr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the first President to die in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President for only one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inauguration day was very cold and rainy, yet he made the longest speech in history (105 minu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result, he caught pneumonia and died one month later on April 4,18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hn Ty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first Vice President to assume the Presid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William Henry Harrison"/>
          <p:cNvPicPr/>
          <p:nvPr/>
        </p:nvPicPr>
        <p:blipFill>
          <a:blip r:embed="rId1"/>
          <a:stretch/>
        </p:blipFill>
        <p:spPr>
          <a:xfrm>
            <a:off x="5486400" y="1676520"/>
            <a:ext cx="276876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chary Tay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7960" y="13716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 was the second President to die in off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 came down with a stomach virus after a ceremony at the Washington Monument on a very hot July 4, 18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 died 5 days l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mad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illard Fillmo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he new Presi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had been rumors that the President had been poisoned.  They were disproved in 1991 when his body was exhumed and tested for the pois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1" descr="Portrait of Zachary Taylor"/>
          <p:cNvPicPr/>
          <p:nvPr/>
        </p:nvPicPr>
        <p:blipFill>
          <a:blip r:embed="rId1"/>
          <a:stretch/>
        </p:blipFill>
        <p:spPr>
          <a:xfrm>
            <a:off x="1143000" y="1447920"/>
            <a:ext cx="3032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aham Lincol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incoln was the 1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President to be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ssassina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e was shot on April 14, 1865 while at a play in Ford’s Theatre in Washington, D.C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e was killed by actor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John Wilkes Booth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, a Confederate sympathizer from Mississipp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ndrew Johnso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became President when Lincoln died the next da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ohnson would become the 1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President to be impeach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5" descr="Portrait of Abraham Lincoln"/>
          <p:cNvPicPr/>
          <p:nvPr/>
        </p:nvPicPr>
        <p:blipFill>
          <a:blip r:embed="rId1"/>
          <a:stretch/>
        </p:blipFill>
        <p:spPr>
          <a:xfrm>
            <a:off x="4648320" y="1143000"/>
            <a:ext cx="1993680" cy="3048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The_Assassination_of_President_Lincoln_-_Currier_and_Ives"/>
          <p:cNvPicPr/>
          <p:nvPr/>
        </p:nvPicPr>
        <p:blipFill>
          <a:blip r:embed="rId2"/>
          <a:stretch/>
        </p:blipFill>
        <p:spPr>
          <a:xfrm>
            <a:off x="5638680" y="4343400"/>
            <a:ext cx="3048120" cy="21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ecutive Bran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main job of the Executive branch is to enforce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d by the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ls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cludes the Vice President, Cabinet membe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many other employ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the largest of the three bran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3" descr="Official Cabinet Photo"/>
          <p:cNvPicPr/>
          <p:nvPr/>
        </p:nvPicPr>
        <p:blipFill>
          <a:blip r:embed="rId1"/>
          <a:stretch/>
        </p:blipFill>
        <p:spPr>
          <a:xfrm>
            <a:off x="123840" y="2438280"/>
            <a:ext cx="47260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 Gar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7960" y="13712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arfield was shot on July 2, 1881 while his train stopped in New Jerse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e lived until September 19, when he died of blood poison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actual cause of death was an infection caused by his doctors using unsterile instruments, not the bull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e was shot by Charles Guiteau, who was upset after having his application to be ambassador to France rejec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s made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hester A. Arthu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Presid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4" descr="Portrait of James A. Garfield"/>
          <p:cNvPicPr/>
          <p:nvPr/>
        </p:nvPicPr>
        <p:blipFill>
          <a:blip r:embed="rId1"/>
          <a:stretch/>
        </p:blipFill>
        <p:spPr>
          <a:xfrm>
            <a:off x="304920" y="1143000"/>
            <a:ext cx="2409840" cy="3505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Garfield's assassination"/>
          <p:cNvPicPr/>
          <p:nvPr/>
        </p:nvPicPr>
        <p:blipFill>
          <a:blip r:embed="rId2"/>
          <a:stretch/>
        </p:blipFill>
        <p:spPr>
          <a:xfrm>
            <a:off x="1905120" y="4724280"/>
            <a:ext cx="259056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liam McKin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just beginning his second term when he was shot in Buffalo, NY in 19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died 8 days later, mak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ddy Roosevel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assassin was Leon Czolgosz, an anarch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image of the assassination"/>
          <p:cNvPicPr/>
          <p:nvPr/>
        </p:nvPicPr>
        <p:blipFill>
          <a:blip r:embed="rId1"/>
          <a:stretch/>
        </p:blipFill>
        <p:spPr>
          <a:xfrm>
            <a:off x="5029200" y="4038480"/>
            <a:ext cx="3505320" cy="2549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Portrait of William McKinley"/>
          <p:cNvPicPr/>
          <p:nvPr/>
        </p:nvPicPr>
        <p:blipFill>
          <a:blip r:embed="rId2"/>
          <a:stretch/>
        </p:blipFill>
        <p:spPr>
          <a:xfrm>
            <a:off x="5943600" y="1295280"/>
            <a:ext cx="17334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ren G. Har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1640" y="1066320"/>
            <a:ext cx="4419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ing is considered to be one of the worst U.S. Presidents by his involvement in several scand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 death in 1923 was mysterious.  While returning home from a trip to Alaska he got sick and die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showed signs of food poisoning, developed pneumonia and d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rumored that he was poisoned by his wife, whom he had been unfaithful to on several occa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 wife would not allow an autopsy after his death, so the actual cause of death was never determ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a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vin Coolid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new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Portrait of Warren G. Harding"/>
          <p:cNvPicPr/>
          <p:nvPr/>
        </p:nvPicPr>
        <p:blipFill>
          <a:blip r:embed="rId1"/>
          <a:stretch/>
        </p:blipFill>
        <p:spPr>
          <a:xfrm>
            <a:off x="1371600" y="1600200"/>
            <a:ext cx="281160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nklin D. Rooseve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as the longest serving U.S. president, as he began a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rm in 19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had suffered though physical disabilities due to Polio throughout his Presid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died of a brain hemorrhage on April 12, 1945 as World War II was continu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ry S. Trum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came President.  He had only become Vice President during the current term and was not very well informed by FDR on war polic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man had more challenges than any other Vice President taking over, yet is considered one of the best Presi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Portrait of Franklin D. Roosevelt"/>
          <p:cNvPicPr/>
          <p:nvPr/>
        </p:nvPicPr>
        <p:blipFill>
          <a:blip r:embed="rId1"/>
          <a:stretch/>
        </p:blipFill>
        <p:spPr>
          <a:xfrm>
            <a:off x="4952880" y="1371600"/>
            <a:ext cx="282276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F. Kennedy was shot and killed instantly in Dallas, Texas on November 22, 196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yndon B. John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became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arren Commission, a special Presidential Commission, ruled that Lee Harvey Oswald was the lone gun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eople did not believe the commission and there are still many conspiracy theories that surround Kennedy’s d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5" descr="John F. Kennedy"/>
          <p:cNvPicPr/>
          <p:nvPr/>
        </p:nvPicPr>
        <p:blipFill>
          <a:blip r:embed="rId1"/>
          <a:stretch/>
        </p:blipFill>
        <p:spPr>
          <a:xfrm>
            <a:off x="1219320" y="1143000"/>
            <a:ext cx="2236680" cy="2743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7" descr="Image:Zapruder-150.jpg"/>
          <p:cNvPicPr/>
          <p:nvPr/>
        </p:nvPicPr>
        <p:blipFill>
          <a:blip r:embed="rId2"/>
          <a:stretch/>
        </p:blipFill>
        <p:spPr>
          <a:xfrm>
            <a:off x="609480" y="3962520"/>
            <a:ext cx="3657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chard Nix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ard Nixon was being investigated by the House of Representatives for his part in the “Watergate” Scandal and was about to be impe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decided to resign before he was forced out of off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ent on television and announced his decision on August 8, 197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ce Presid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ald Fo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ok over the next day as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4" descr="Richard Nixon"/>
          <p:cNvPicPr/>
          <p:nvPr/>
        </p:nvPicPr>
        <p:blipFill>
          <a:blip r:embed="rId1"/>
          <a:stretch/>
        </p:blipFill>
        <p:spPr>
          <a:xfrm>
            <a:off x="5181480" y="2057400"/>
            <a:ext cx="3002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picked Gerald Fo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4343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rald Ford took over from Nixon in 1974 as the only un-elected President in U.S.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72, Nixon was re-elected with Spiro Agnew as his Vice-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new was caught in a scandal of his own for taking bri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new resigned and Nixon appointed Ford to replace him as Vice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Nixon had to resign too, Ford became President, having not ever even won a statewide election.  He had been a member of the House of Representatives from Michigan before becoming Vice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as not elected in 1976, losing to Jimmy Ca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2" descr="Gerald Ford"/>
          <p:cNvPicPr/>
          <p:nvPr/>
        </p:nvPicPr>
        <p:blipFill>
          <a:blip r:embed="rId1"/>
          <a:stretch/>
        </p:blipFill>
        <p:spPr>
          <a:xfrm>
            <a:off x="1066680" y="1676520"/>
            <a:ext cx="297360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residential Succession Act of 19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law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lears up who becomes President if the President and other high government officials were to die at the same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rder 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ce Presi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 Speak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f the Ho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) President Pro Tempore of Sen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) Secretary of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)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ther 14 Cabinet Secretarie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e order that their departments were cre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was also cleared up by the 25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mend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76560" y="4952520"/>
            <a:ext cx="4267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ig job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 to enforcing laws, the Executive branch has many other du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fend the 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intain relations with foreig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e industry to protect the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general welfare of th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sident receives help from many departments and millions of employees to meet these du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esident is not al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ere are 15 Departments within the Executive Branch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hat help the President carry out his responsibilit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George Washingto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created the first four Departments of State, Treasury, War, and Justice.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y all still exist, except the War Department is now called the Defense Depart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other 11 were created as the need for them came u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ost recen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was created by President Bush in 2002 , the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Department of Homeland Security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What do you think it does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esid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sident is the leader of the nation as well as the Executive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sident is elect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y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ectoral Colle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to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 year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stituti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as 3 qualifications one must meet to be President: 1) at least 35 years old, 2) be born a U.S. citizen, and 3) have lived in the U.S. for at least 14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6" descr="Official_portrait_of_Barack_Obama"/>
          <p:cNvPicPr/>
          <p:nvPr/>
        </p:nvPicPr>
        <p:blipFill>
          <a:blip r:embed="rId1"/>
          <a:stretch/>
        </p:blipFill>
        <p:spPr>
          <a:xfrm>
            <a:off x="5003640" y="1600200"/>
            <a:ext cx="3326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lectoral Colle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7960" y="1143000"/>
            <a:ext cx="4343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esident and VP are elected by the states through the electoral col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state’s number of electoral votes is equal to its combined number of Senators and Representatives in Con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Virginia has 2 Senators and 11 Representatives, we get 13 electoral v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a total of 538 electoral votes, equal to the 100 Senators + 435 Representatives + 3 electoral votes for D.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state holds an election where the people vote on how to cast the state’s electoral votes for President.  This is called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pular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A_certificate_for_the_electoral_vote_for_George_W"/>
          <p:cNvPicPr/>
          <p:nvPr/>
        </p:nvPicPr>
        <p:blipFill>
          <a:blip r:embed="rId1"/>
          <a:stretch/>
        </p:blipFill>
        <p:spPr>
          <a:xfrm>
            <a:off x="743040" y="1600200"/>
            <a:ext cx="3467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oral Colle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47242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t is a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“winner take all” system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n most states. Whichever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andidat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gets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ost popular votes gets ALL of the state’s electoral vo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ce a candidate has won a state, its electoral votes go into his colum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first candidate to get 271 electoral votes is the winner. 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If no candidate receives a majority of the electoral vote, the House of Representatives chooses the Presid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metimes the candidate with the most overall votes from the people does not win the election because of the combination of states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most recent example was in 2000.  Bush won the electoral college, even though Gore got over 500,000 more popular vo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im"/>
          <p:cNvPicPr/>
          <p:nvPr/>
        </p:nvPicPr>
        <p:blipFill>
          <a:blip r:embed="rId1"/>
          <a:stretch/>
        </p:blipFill>
        <p:spPr>
          <a:xfrm>
            <a:off x="4911840" y="1600200"/>
            <a:ext cx="3510000" cy="218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goremoreflagSAM"/>
          <p:cNvPicPr/>
          <p:nvPr/>
        </p:nvPicPr>
        <p:blipFill>
          <a:blip r:embed="rId2"/>
          <a:stretch/>
        </p:blipFill>
        <p:spPr>
          <a:xfrm>
            <a:off x="4952880" y="4168800"/>
            <a:ext cx="403884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oral Fail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inde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676520"/>
            <a:ext cx="4496040" cy="26305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imes no one won a majority and the House had to choose the wi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happened in 1796 and 1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Times the Electoral College has not chosen the same President as the winner of the popular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happened in 1876, 1888 and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us-flag-250px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43000" y="4876920"/>
            <a:ext cx="245124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ion of 18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0" descr="02"/>
          <p:cNvPicPr/>
          <p:nvPr/>
        </p:nvPicPr>
        <p:blipFill>
          <a:blip r:embed="rId1"/>
          <a:stretch/>
        </p:blipFill>
        <p:spPr>
          <a:xfrm>
            <a:off x="1143000" y="1371600"/>
            <a:ext cx="2897280" cy="38862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7960" y="129528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was the most controversial and confusing election is U.S. his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vote was divided among 4 major candid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raham Lincol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on, even through 6 out of 10 voters voted for someone el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coln was not even on the ballot in most Southern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s election led South Carolina to leave the Union in December.  Eventually 10 other Southern states would follow and form the Confederate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led to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ivil W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s Lincoln did not recognize their right to leave the Un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Map of the Presidential Election of 1860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762120"/>
            <a:ext cx="8763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aren’t so cl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294920"/>
            <a:ext cx="4495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metimes the Presidential election is not even close in the popular vote or the electoral colle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972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ichard Nixo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won re-election over George McGovern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20-17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nd by over 18 million popular vo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980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onald Reaga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defeated the sitting President, Jimmy Carter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89-49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 He was re-elected in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984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over Walter Mondal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25-13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d almost 17 million popular vo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5" descr="President Ronald Reagan and Vice President George Bush at the 1984 Republican National Convention in Dallas, Texas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905120"/>
            <a:ext cx="434340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0T15:04:54Z</dcterms:created>
  <dc:creator>Osama Agami</dc:creator>
  <dc:description/>
  <dc:language>en-US</dc:language>
  <cp:lastModifiedBy>Phillip C. McGinnis</cp:lastModifiedBy>
  <dcterms:modified xsi:type="dcterms:W3CDTF">2013-12-20T15:38:01Z</dcterms:modified>
  <cp:revision>103</cp:revision>
  <dc:subject/>
  <dc:title>Slide 1</dc:title>
</cp:coreProperties>
</file>